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B31F-2D5B-4F97-991A-8D7713EC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215-7FDB-407F-8724-27483DAB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C86-D14A-410D-832D-CDA4F0FF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B5B-B0DA-4830-8C0E-329E65BC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DB47-1D93-4F1C-8C2D-B0D12C5A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25F6-EACE-4D3A-A76E-06CBE04D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E724-6502-4DBA-B2C0-9E4AF346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46AC-E32E-4DD7-89D6-DF35BCCD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DFAE-691B-4FC0-B893-BE2BD7B3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ED82-0244-46A6-82E9-1012A0B6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E226-E058-4CE5-A19F-4D19920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775-01CC-4A21-B023-F53C73ED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0962-82DE-4674-9C32-DFFA4F7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0538-7C56-4AC5-82A8-C18E5D31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B101-D293-428B-9806-93EBE64A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FEA8-5236-4E00-A714-1422F22D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CABE-F276-4132-AEEC-00AD7E3E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5528-F285-4F04-BC4A-6BD1B69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041E4-53A3-4563-95A4-E96986DD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250A-C9FB-4844-8762-6070E25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34E9-A0AB-4466-B7F8-7CF0118C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E5DB-3CB4-4043-84BD-C5B21781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CDC-B6AF-453A-B348-929DBBF0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5C542-1DFD-49D6-9C85-38154D9C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3DF6-2339-4276-A80D-3AA3221E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012F9-0593-4057-BD6B-26B7C81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C2EC5-C331-423B-B78F-A62361C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6F7B-C824-4794-B85E-744AFE43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0580-B588-43DA-856D-6A85282A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4C76-81D5-4774-A4F3-4A40EE91C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BB96E-39BE-4479-8720-E68F212F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C2740-A5E5-49A6-B56E-0DD0DCD5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726DE-70C7-4190-82B4-45FEF42B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464-515B-4C4D-B169-DF577452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6DF7-CEB9-444E-9A31-D33D2C94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96313-2D29-4674-8B6C-61E31CE7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4265-79C9-4B90-986C-0786EA12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326D-FA15-4EC3-89E1-234BDB2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FFC5C-41EA-4F4D-95B0-9D59802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C90C-4ADF-4CC8-96C2-DDFD729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498E1-385C-4FDE-8A29-A31816F8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BB525-F9F5-4674-936F-BFF312D6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284D-90F8-4A58-8D92-01E439E3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1AD6-23C6-4B67-9FCD-7F9C3337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1D5-AB33-4B95-A8D6-64BC127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DEBE-0D92-4FAE-91D7-47BE0862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424A3-9DA6-4928-A455-321494A0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801D4-C920-4CB8-93B6-A94FEAC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E73B-3CD3-49A1-9C92-4D917EF9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0F939-557B-4B6E-81DF-8BFB07CE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80CA-67F3-4416-90D6-6076F6B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C34A-7F49-4A08-B2C1-62DFF6D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DF1D9-F78C-45AB-8CC4-5810DC5A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87A7-5E45-4776-B11E-4737754D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D74EE-B770-4724-A4D4-F83092F9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279-083D-430C-A32E-2D7EB0B0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5B2D8-8E61-446C-A37F-2B2E6F76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3C5-DAAB-4F89-90F6-AD98A8A1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0C5-7A39-4CB4-A1B2-66D1A712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9345-667D-4FD4-B6D2-BE71596F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3064-F2A2-4E16-AB06-4E9804B58CC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903-3498-4E5F-8883-27E1BE3076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B8CC-1162-471F-A6F4-0DF1C909F9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7F8-2D3B-478E-BAA8-20EF0465885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96D2-0471-4616-9FF2-D7A20AADF7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533c"/>
                </a:solidFill>
                <a:latin typeface="Arial"/>
              </a:rPr>
              <a:t>ОСНОВЫ УПРАВЛЕНИЯ ПРОЕКТАМИ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99720" y="514332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76e"/>
                </a:solidFill>
                <a:latin typeface="Arial"/>
              </a:rPr>
              <a:t>ВЫСШАЯ ШКОЛА УПРАВЛЕНИЯ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76e"/>
                </a:solidFill>
                <a:latin typeface="Arial"/>
              </a:rPr>
              <a:t>НИУ «БелГУ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971640" y="242100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В помощь участнику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Международной молодёжной школы проектного управления «Пегас 2012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ределение проект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Проект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 – это уникальный процесс, состоящий из набора взаимоувязанных и контролируемых работ с датами начала и окончания и предпринятый, чтобы достичь цели соответствия конкретным требованиям, включая ограничения по времени, затратам и ресурсам»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Процессная модель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10c"/>
                </a:solidFill>
                <a:latin typeface="Arial"/>
              </a:rPr>
              <a:t>ISO</a:t>
            </a: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 9000, 10006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Номер слайда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024-B0DF-4C7E-B3CF-AD06A011B5B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ределение проект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Проект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– целенаправленная деятельность временного характера, предназначенная для создания уникального продукта или услуги, ограниченная во времени и связанная с потреблением ресурсов»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Национальные требования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к компетенци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СОВНЕ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Номер слайда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C5EB-CB60-4469-81FC-142E1C1C3B4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ризнаки проект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Направленность на достижение конкретных целей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Координированное выполнение взаимосвязанных элементарных работ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Ограниченность ресурсов, в том числе временного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Неповторимость и уникальность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E0FD-F206-42F6-8253-CE2F486DABD2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430C-9344-4F16-A0AE-958B3358BC6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i-main-pic" descr="Картинка 1 из 630"/>
          <p:cNvPicPr/>
          <p:nvPr/>
        </p:nvPicPr>
        <p:blipFill>
          <a:blip r:embed="rId1"/>
          <a:stretch/>
        </p:blipFill>
        <p:spPr>
          <a:xfrm>
            <a:off x="34920" y="1700280"/>
            <a:ext cx="2938320" cy="37447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3693240" y="2872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MAR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059280" y="1557360"/>
            <a:ext cx="58338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b3c"/>
                </a:solidFill>
                <a:latin typeface="Verdana"/>
              </a:rPr>
              <a:t>SMART</a:t>
            </a: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является аббревиатурой, которую ввел в 1954 г. Питер Друкер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5 критериев постановки целей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pecific</a:t>
            </a: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- конкретн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easurable</a:t>
            </a: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- измерим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chievable - достижим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ealistiс - реалистичн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ime</a:t>
            </a:r>
            <a:r>
              <a:rPr b="0" lang="en-US" sz="2400" spc="-1" strike="noStrike">
                <a:solidFill>
                  <a:srgbClr val="091b3c"/>
                </a:solidFill>
                <a:latin typeface="Verdana"/>
              </a:rPr>
              <a:t>d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- определенная по времени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остановка цел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Координированное выполнение взаимосвязанных элементарных работ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27808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Элементарность работы – понятие условное и относительное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Объект проектного управления – комплекс взаимосвязанных работ, направленных на решение некоторой оригинальной</a:t>
            </a:r>
            <a:r>
              <a:rPr b="0" i="1" lang="ru-RU" sz="2400" spc="-1" strike="noStrike">
                <a:solidFill>
                  <a:srgbClr val="262d3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задачи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Проект – это система, состоящая из взаимосвязанных частей, причем система динамическая, требующая особых подходов к управлению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853-6C07-4C85-9FD8-F3CF4920D71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граниченность ресурсов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d35"/>
                </a:solidFill>
                <a:latin typeface="Arial"/>
              </a:rPr>
              <a:t>При управлении проектом первоочередным контролируемым ресурсом является </a:t>
            </a:r>
            <a:r>
              <a:rPr b="1" lang="ru-RU" sz="3200" spc="-1" strike="noStrike">
                <a:solidFill>
                  <a:srgbClr val="262d35"/>
                </a:solidFill>
                <a:latin typeface="Arial"/>
              </a:rPr>
              <a:t>время</a:t>
            </a:r>
            <a:r>
              <a:rPr b="0" lang="ru-RU" sz="3200" spc="-1" strike="noStrike">
                <a:solidFill>
                  <a:srgbClr val="262d35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d35"/>
                </a:solidFill>
                <a:latin typeface="Arial"/>
              </a:rPr>
              <a:t>Использование других видов ресурсов осуществляется в рамках заранее определенных временных периодов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3CB8-F2B4-4AB2-9547-75E044ECB85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лассификация проектов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2000" y="1052640"/>
            <a:ext cx="8650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Организационны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реформированием организаций, созданием новой организации и др.);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Экономически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привлечение инвестиций, создают новые предприятия и др.);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Социальны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решением социальных проблем)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Технологически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разработкой нового продукта, новой технологии)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1818-D0AE-48CB-9359-9A9BC6B199B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Направления для формирования тематики проектов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Социально-экономическое развитие региона, муниципального района, территори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Приграничное и межрегиональное сотрудничество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Формирование студенческого самоуправления, социальной мобильности, развитие студенческой наук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dim</dc:creator>
  <dc:description/>
  <dc:language>en-US</dc:language>
  <cp:lastModifiedBy>Vadim</cp:lastModifiedBy>
  <dcterms:modified xsi:type="dcterms:W3CDTF">2012-07-02T06:51:04Z</dcterms:modified>
  <cp:revision>4</cp:revision>
  <dc:subject/>
  <dc:title>ОСНОВЫ УПРАВЛЕНИЯ ПРОЕКТАМИ</dc:title>
</cp:coreProperties>
</file>